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411-89AD-4039-9FD8-AF53C1D0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32C-83B8-4DA6-9B19-1934967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C3A-9F11-4465-BBD3-2591DE3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C3E-22C8-4379-A77D-874B007D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759-3D66-4048-942B-610350AE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66E-847E-4612-B426-6655F3F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190-643D-47C1-9851-F663876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7C5-3BE9-42A1-9BFE-3FC48EFE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3E1-A61F-468F-A4F5-6F8D777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DF4-281C-4E6D-883A-9A717FE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87D-1B8E-4A76-B074-50B172F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753-8927-4661-8058-686275D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5726-5C40-4E3A-AFFF-D777B0A96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op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972 and 19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5" descr="tree-cover-a1.gif"/>
          <p:cNvPicPr/>
          <p:nvPr/>
        </p:nvPicPr>
        <p:blipFill>
          <a:blip r:embed="rId1"/>
          <a:stretch/>
        </p:blipFill>
        <p:spPr>
          <a:xfrm>
            <a:off x="750960" y="380880"/>
            <a:ext cx="69451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26:00Z</dcterms:created>
  <dc:creator>tbaker</dc:creator>
  <dc:description/>
  <dc:language>en-US</dc:language>
  <cp:lastModifiedBy>tbaker</cp:lastModifiedBy>
  <dcterms:modified xsi:type="dcterms:W3CDTF">2009-04-20T16:29:01Z</dcterms:modified>
  <cp:revision>1</cp:revision>
  <dc:subject/>
  <dc:title>Canopy Changes</dc:title>
</cp:coreProperties>
</file>